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5FD-80FD-47E7-8C49-A2F31A31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1C8-45E4-4E88-9EFE-4BC40AFA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23A-3F00-4F83-9216-1FBCB568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7C2-94B6-4F7B-A778-4C7C91FD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22A-846A-4349-A7F5-E6D16BA9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5C7-B9C8-4FD3-85B2-F8BD4E1D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0E6-3BAC-4C25-B837-A7777AB3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F74-5F7A-4255-9141-C1AFF181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B50-6F83-45D5-A848-79FB4097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E64-FE76-45B7-8A93-861F7DA1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AF2-29DF-4D68-AFCA-68A0573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DA8-481B-48EE-ADF0-2B6C59FE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3D2B4-021D-4417-B166-BED1359E53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1"/>
          <p:cNvGraphicFramePr/>
          <p:nvPr/>
        </p:nvGraphicFramePr>
        <p:xfrm>
          <a:off x="533520" y="4952880"/>
          <a:ext cx="144756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952880"/>
                    <a:ext cx="144756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2"/>
          <p:cNvGraphicFramePr/>
          <p:nvPr/>
        </p:nvGraphicFramePr>
        <p:xfrm>
          <a:off x="7315200" y="2590920"/>
          <a:ext cx="1447920" cy="14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2590920"/>
                    <a:ext cx="144792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WordArt 3"/>
          <p:cNvSpPr txBox="1"/>
          <p:nvPr/>
        </p:nvSpPr>
        <p:spPr>
          <a:xfrm>
            <a:off x="762120" y="914400"/>
            <a:ext cx="7315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easurement Division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828800" y="2666880"/>
            <a:ext cx="5791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Times New Roman"/>
              </a:rPr>
              <a:t>Dr. Beth McCulloch Vin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Times New Roman"/>
              </a:rPr>
              <a:t>Athens Stat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Times New Roman"/>
              </a:rPr>
              <a:t>PT3 Grant Funding, Summer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5"/>
          <a:stretch/>
        </p:blipFill>
        <p:spPr>
          <a:xfrm>
            <a:off x="3200400" y="5105520"/>
            <a:ext cx="292104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58560"/>
            <a:ext cx="75960" cy="139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80880" y="2666880"/>
          <a:ext cx="1524240" cy="146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666880"/>
                    <a:ext cx="15242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8"/>
          <p:cNvGraphicFramePr/>
          <p:nvPr/>
        </p:nvGraphicFramePr>
        <p:xfrm>
          <a:off x="7315200" y="4876920"/>
          <a:ext cx="1419120" cy="144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15200" y="4876920"/>
                    <a:ext cx="1419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"/>
          <p:cNvGrpSpPr/>
          <p:nvPr/>
        </p:nvGrpSpPr>
        <p:grpSpPr>
          <a:xfrm>
            <a:off x="1066680" y="2895480"/>
            <a:ext cx="3619440" cy="3732120"/>
            <a:chOff x="1066680" y="2895480"/>
            <a:chExt cx="3619440" cy="3732120"/>
          </a:xfrm>
        </p:grpSpPr>
        <p:graphicFrame>
          <p:nvGraphicFramePr>
            <p:cNvPr id="54" name="Object 2"/>
            <p:cNvGraphicFramePr/>
            <p:nvPr/>
          </p:nvGraphicFramePr>
          <p:xfrm>
            <a:off x="1066680" y="4723560"/>
            <a:ext cx="1791720" cy="182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723560"/>
                      <a:ext cx="1791720" cy="182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Object 3"/>
            <p:cNvGraphicFramePr/>
            <p:nvPr/>
          </p:nvGraphicFramePr>
          <p:xfrm>
            <a:off x="2894400" y="4799520"/>
            <a:ext cx="1791720" cy="182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4400" y="4799520"/>
                      <a:ext cx="1791720" cy="182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Object 4"/>
            <p:cNvGraphicFramePr/>
            <p:nvPr/>
          </p:nvGraphicFramePr>
          <p:xfrm>
            <a:off x="1066680" y="2895480"/>
            <a:ext cx="1791720" cy="1828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66680" y="2895480"/>
                      <a:ext cx="1791720" cy="182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Object 5"/>
            <p:cNvGraphicFramePr/>
            <p:nvPr/>
          </p:nvGraphicFramePr>
          <p:xfrm>
            <a:off x="2894400" y="2971440"/>
            <a:ext cx="1791720" cy="1828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4400" y="2971440"/>
                      <a:ext cx="1791720" cy="182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" name="Group 6"/>
          <p:cNvGrpSpPr/>
          <p:nvPr/>
        </p:nvGrpSpPr>
        <p:grpSpPr>
          <a:xfrm>
            <a:off x="4648320" y="2971800"/>
            <a:ext cx="3655440" cy="3579480"/>
            <a:chOff x="4648320" y="2971800"/>
            <a:chExt cx="3655440" cy="3579480"/>
          </a:xfrm>
        </p:grpSpPr>
        <p:graphicFrame>
          <p:nvGraphicFramePr>
            <p:cNvPr id="63" name="Object 7"/>
            <p:cNvGraphicFramePr/>
            <p:nvPr/>
          </p:nvGraphicFramePr>
          <p:xfrm>
            <a:off x="4648320" y="4723560"/>
            <a:ext cx="1791000" cy="182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48320" y="4723560"/>
                      <a:ext cx="1791000" cy="182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Object 8"/>
            <p:cNvGraphicFramePr/>
            <p:nvPr/>
          </p:nvGraphicFramePr>
          <p:xfrm>
            <a:off x="6512400" y="4723560"/>
            <a:ext cx="1791360" cy="1827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12400" y="4723560"/>
                      <a:ext cx="1791360" cy="182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" name="Object 9"/>
            <p:cNvGraphicFramePr/>
            <p:nvPr/>
          </p:nvGraphicFramePr>
          <p:xfrm>
            <a:off x="4723920" y="2971800"/>
            <a:ext cx="1791360" cy="1827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3920" y="2971800"/>
                      <a:ext cx="1791360" cy="182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" name="Object 10"/>
            <p:cNvGraphicFramePr/>
            <p:nvPr/>
          </p:nvGraphicFramePr>
          <p:xfrm>
            <a:off x="6512400" y="2971800"/>
            <a:ext cx="1791360" cy="1827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0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512400" y="2971800"/>
                      <a:ext cx="1791360" cy="182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" name="Text Box 11"/>
          <p:cNvSpPr/>
          <p:nvPr/>
        </p:nvSpPr>
        <p:spPr>
          <a:xfrm>
            <a:off x="1143000" y="3049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Times New Roman"/>
              </a:rPr>
              <a:t>Each shirt needs 4 buttons.  There are 8 buttons in all.  How many shirts can we make with the 8 button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Group 12"/>
          <p:cNvGrpSpPr/>
          <p:nvPr/>
        </p:nvGrpSpPr>
        <p:grpSpPr>
          <a:xfrm>
            <a:off x="3429000" y="2209680"/>
            <a:ext cx="2208240" cy="581400"/>
            <a:chOff x="3429000" y="2209680"/>
            <a:chExt cx="2208240" cy="581400"/>
          </a:xfrm>
        </p:grpSpPr>
        <p:sp>
          <p:nvSpPr>
            <p:cNvPr id="73" name="Text Box 13"/>
            <p:cNvSpPr/>
            <p:nvPr/>
          </p:nvSpPr>
          <p:spPr>
            <a:xfrm>
              <a:off x="3429000" y="2209680"/>
              <a:ext cx="220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8     4 = </a:t>
              </a:r>
              <a:r>
                <a:rPr b="0" lang="en-GB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4" name="Object 14"/>
            <p:cNvGraphicFramePr/>
            <p:nvPr/>
          </p:nvGraphicFramePr>
          <p:xfrm>
            <a:off x="3809520" y="2361600"/>
            <a:ext cx="342720" cy="3322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5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809520" y="2361600"/>
                      <a:ext cx="342720" cy="33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1143000" y="3049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Times New Roman"/>
              </a:rPr>
              <a:t>We measure out 4 buttons for 1 shirt and 4 buttons for another shirt.  We can make 2 shirts with the 8 butt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2"/>
          <p:cNvGrpSpPr/>
          <p:nvPr/>
        </p:nvGrpSpPr>
        <p:grpSpPr>
          <a:xfrm>
            <a:off x="3962520" y="2209680"/>
            <a:ext cx="2208240" cy="581400"/>
            <a:chOff x="3962520" y="2209680"/>
            <a:chExt cx="2208240" cy="581400"/>
          </a:xfrm>
        </p:grpSpPr>
        <p:sp>
          <p:nvSpPr>
            <p:cNvPr id="78" name="Text Box 3"/>
            <p:cNvSpPr/>
            <p:nvPr/>
          </p:nvSpPr>
          <p:spPr>
            <a:xfrm>
              <a:off x="3962520" y="2209680"/>
              <a:ext cx="220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8     4 = 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9" name="Object 4"/>
            <p:cNvGraphicFramePr/>
            <p:nvPr/>
          </p:nvGraphicFramePr>
          <p:xfrm>
            <a:off x="4343040" y="2361600"/>
            <a:ext cx="342720" cy="33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61600"/>
                      <a:ext cx="342720" cy="33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" name="Group 5"/>
          <p:cNvGrpSpPr/>
          <p:nvPr/>
        </p:nvGrpSpPr>
        <p:grpSpPr>
          <a:xfrm>
            <a:off x="4800600" y="2514600"/>
            <a:ext cx="4341960" cy="4341960"/>
            <a:chOff x="4800600" y="2514600"/>
            <a:chExt cx="4341960" cy="4341960"/>
          </a:xfrm>
        </p:grpSpPr>
        <p:grpSp>
          <p:nvGrpSpPr>
            <p:cNvPr id="82" name="Group 6"/>
            <p:cNvGrpSpPr/>
            <p:nvPr/>
          </p:nvGrpSpPr>
          <p:grpSpPr>
            <a:xfrm>
              <a:off x="5181120" y="2590560"/>
              <a:ext cx="3654360" cy="3958560"/>
              <a:chOff x="5181120" y="2590560"/>
              <a:chExt cx="3654360" cy="3958560"/>
            </a:xfrm>
          </p:grpSpPr>
          <p:grpSp>
            <p:nvGrpSpPr>
              <p:cNvPr id="83" name="Group 7"/>
              <p:cNvGrpSpPr/>
              <p:nvPr/>
            </p:nvGrpSpPr>
            <p:grpSpPr>
              <a:xfrm>
                <a:off x="5181120" y="2971080"/>
                <a:ext cx="3654360" cy="3578040"/>
                <a:chOff x="5181120" y="2971080"/>
                <a:chExt cx="3654360" cy="3578040"/>
              </a:xfrm>
            </p:grpSpPr>
            <p:graphicFrame>
              <p:nvGraphicFramePr>
                <p:cNvPr id="84" name="Object 8"/>
                <p:cNvGraphicFramePr/>
                <p:nvPr/>
              </p:nvGraphicFramePr>
              <p:xfrm>
                <a:off x="5181120" y="4722120"/>
                <a:ext cx="1791000" cy="1827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85" name="Object 8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181120" y="4722120"/>
                          <a:ext cx="179100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86" name="Object 9"/>
                <p:cNvGraphicFramePr/>
                <p:nvPr/>
              </p:nvGraphicFramePr>
              <p:xfrm>
                <a:off x="7044840" y="4722120"/>
                <a:ext cx="1790640" cy="18270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87" name="Object 9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7044840" y="4722120"/>
                          <a:ext cx="179064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88" name="Object 10"/>
                <p:cNvGraphicFramePr/>
                <p:nvPr/>
              </p:nvGraphicFramePr>
              <p:xfrm>
                <a:off x="5257080" y="2971080"/>
                <a:ext cx="1791000" cy="18270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89" name="Object 10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257080" y="2971080"/>
                          <a:ext cx="179100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0" name="Object 11"/>
                <p:cNvGraphicFramePr/>
                <p:nvPr/>
              </p:nvGraphicFramePr>
              <p:xfrm>
                <a:off x="7044840" y="2971080"/>
                <a:ext cx="1790640" cy="18270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91" name="Object 11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7044840" y="2971080"/>
                          <a:ext cx="179064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92" name="Text Box 12"/>
              <p:cNvSpPr/>
              <p:nvPr/>
            </p:nvSpPr>
            <p:spPr>
              <a:xfrm>
                <a:off x="6247440" y="2590560"/>
                <a:ext cx="152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32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ff3399"/>
                    </a:solidFill>
                    <a:latin typeface="Times New Roman"/>
                  </a:rPr>
                  <a:t>shirt #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" name="Oval 13"/>
            <p:cNvSpPr/>
            <p:nvPr/>
          </p:nvSpPr>
          <p:spPr>
            <a:xfrm>
              <a:off x="4800600" y="2514600"/>
              <a:ext cx="4341960" cy="434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Group 14"/>
          <p:cNvGrpSpPr/>
          <p:nvPr/>
        </p:nvGrpSpPr>
        <p:grpSpPr>
          <a:xfrm>
            <a:off x="0" y="2514600"/>
            <a:ext cx="4341960" cy="4341960"/>
            <a:chOff x="0" y="2514600"/>
            <a:chExt cx="4341960" cy="4341960"/>
          </a:xfrm>
        </p:grpSpPr>
        <p:grpSp>
          <p:nvGrpSpPr>
            <p:cNvPr id="95" name="Group 15"/>
            <p:cNvGrpSpPr/>
            <p:nvPr/>
          </p:nvGrpSpPr>
          <p:grpSpPr>
            <a:xfrm>
              <a:off x="380520" y="2590560"/>
              <a:ext cx="3654360" cy="3958560"/>
              <a:chOff x="380520" y="2590560"/>
              <a:chExt cx="3654360" cy="3958560"/>
            </a:xfrm>
          </p:grpSpPr>
          <p:grpSp>
            <p:nvGrpSpPr>
              <p:cNvPr id="96" name="Group 16"/>
              <p:cNvGrpSpPr/>
              <p:nvPr/>
            </p:nvGrpSpPr>
            <p:grpSpPr>
              <a:xfrm>
                <a:off x="380520" y="2971080"/>
                <a:ext cx="3654360" cy="3578040"/>
                <a:chOff x="380520" y="2971080"/>
                <a:chExt cx="3654360" cy="3578040"/>
              </a:xfrm>
            </p:grpSpPr>
            <p:graphicFrame>
              <p:nvGraphicFramePr>
                <p:cNvPr id="97" name="Object 17"/>
                <p:cNvGraphicFramePr/>
                <p:nvPr/>
              </p:nvGraphicFramePr>
              <p:xfrm>
                <a:off x="380520" y="4722120"/>
                <a:ext cx="1791000" cy="182700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98" name="Object 17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380520" y="4722120"/>
                          <a:ext cx="179100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9" name="Object 18"/>
                <p:cNvGraphicFramePr/>
                <p:nvPr/>
              </p:nvGraphicFramePr>
              <p:xfrm>
                <a:off x="2244240" y="4722120"/>
                <a:ext cx="1790640" cy="182700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100" name="Object 18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2244240" y="4722120"/>
                          <a:ext cx="179064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1" name="Object 19"/>
                <p:cNvGraphicFramePr/>
                <p:nvPr/>
              </p:nvGraphicFramePr>
              <p:xfrm>
                <a:off x="456480" y="2971080"/>
                <a:ext cx="1791000" cy="182700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02" name="Object 19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456480" y="2971080"/>
                          <a:ext cx="179100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3" name="Object 20"/>
                <p:cNvGraphicFramePr/>
                <p:nvPr/>
              </p:nvGraphicFramePr>
              <p:xfrm>
                <a:off x="2244240" y="2971080"/>
                <a:ext cx="1790640" cy="182700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104" name="Object 2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2244240" y="2971080"/>
                          <a:ext cx="179064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05" name="Text Box 21"/>
              <p:cNvSpPr/>
              <p:nvPr/>
            </p:nvSpPr>
            <p:spPr>
              <a:xfrm>
                <a:off x="1446840" y="2590560"/>
                <a:ext cx="152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32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ff3399"/>
                    </a:solidFill>
                    <a:latin typeface="Times New Roman"/>
                  </a:rPr>
                  <a:t>shirt #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Oval 22"/>
            <p:cNvSpPr/>
            <p:nvPr/>
          </p:nvSpPr>
          <p:spPr>
            <a:xfrm>
              <a:off x="0" y="2514600"/>
              <a:ext cx="4341960" cy="434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3581280" y="4648320"/>
          <a:ext cx="1847880" cy="17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648320"/>
                    <a:ext cx="184788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"/>
          <p:cNvGraphicFramePr/>
          <p:nvPr/>
        </p:nvGraphicFramePr>
        <p:xfrm>
          <a:off x="1600200" y="4648320"/>
          <a:ext cx="1847880" cy="17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648320"/>
                    <a:ext cx="184788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3"/>
          <p:cNvSpPr/>
          <p:nvPr/>
        </p:nvSpPr>
        <p:spPr>
          <a:xfrm>
            <a:off x="1066680" y="38088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We have 6 buttons and each person wants to play with 2 buttons.  How many people get to play with the yellow butt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562720" y="4648320"/>
          <a:ext cx="1847880" cy="17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4648320"/>
                    <a:ext cx="184788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3657600" y="2895480"/>
          <a:ext cx="1847880" cy="177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2895480"/>
                    <a:ext cx="184788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1676520" y="2895480"/>
          <a:ext cx="1847880" cy="177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95480"/>
                    <a:ext cx="184788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638680" y="2895480"/>
          <a:ext cx="1847880" cy="177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2895480"/>
                    <a:ext cx="184788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Group 8"/>
          <p:cNvGrpSpPr/>
          <p:nvPr/>
        </p:nvGrpSpPr>
        <p:grpSpPr>
          <a:xfrm>
            <a:off x="3886200" y="2057400"/>
            <a:ext cx="2741760" cy="642600"/>
            <a:chOff x="3886200" y="2057400"/>
            <a:chExt cx="2741760" cy="642600"/>
          </a:xfrm>
        </p:grpSpPr>
        <p:sp>
          <p:nvSpPr>
            <p:cNvPr id="121" name="Text Box 9"/>
            <p:cNvSpPr/>
            <p:nvPr/>
          </p:nvSpPr>
          <p:spPr>
            <a:xfrm>
              <a:off x="3886200" y="2057400"/>
              <a:ext cx="274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6    2 = </a:t>
              </a:r>
              <a:r>
                <a:rPr b="0" lang="en-GB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2" name="Object 10"/>
            <p:cNvGraphicFramePr/>
            <p:nvPr/>
          </p:nvGraphicFramePr>
          <p:xfrm>
            <a:off x="4343040" y="2209320"/>
            <a:ext cx="275760" cy="370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3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343040" y="2209320"/>
                      <a:ext cx="275760" cy="37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066680" y="38088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We measure out 2 buttons for the first person, 2 buttons for the second person, and 2 buttons for the third person.  How many people get to play with the yellow buttons?  The answer is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3429000" y="2819520"/>
            <a:ext cx="2741760" cy="642600"/>
            <a:chOff x="3429000" y="2819520"/>
            <a:chExt cx="2741760" cy="642600"/>
          </a:xfrm>
        </p:grpSpPr>
        <p:sp>
          <p:nvSpPr>
            <p:cNvPr id="126" name="Text Box 3"/>
            <p:cNvSpPr/>
            <p:nvPr/>
          </p:nvSpPr>
          <p:spPr>
            <a:xfrm>
              <a:off x="3429000" y="2819520"/>
              <a:ext cx="274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6    2 = </a:t>
              </a:r>
              <a:r>
                <a:rPr b="0" lang="en-GB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7" name="Object 4"/>
            <p:cNvGraphicFramePr/>
            <p:nvPr/>
          </p:nvGraphicFramePr>
          <p:xfrm>
            <a:off x="3885840" y="2971080"/>
            <a:ext cx="275760" cy="37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5840" y="2971080"/>
                      <a:ext cx="275760" cy="37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" name="Line 5"/>
          <p:cNvSpPr/>
          <p:nvPr/>
        </p:nvSpPr>
        <p:spPr>
          <a:xfrm flipH="1" flipV="1">
            <a:off x="2284200" y="4570200"/>
            <a:ext cx="231480" cy="307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457200" y="3328920"/>
            <a:ext cx="3350880" cy="3527280"/>
            <a:chOff x="457200" y="3328920"/>
            <a:chExt cx="3350880" cy="3527280"/>
          </a:xfrm>
        </p:grpSpPr>
        <p:grpSp>
          <p:nvGrpSpPr>
            <p:cNvPr id="131" name="Group 7"/>
            <p:cNvGrpSpPr/>
            <p:nvPr/>
          </p:nvGrpSpPr>
          <p:grpSpPr>
            <a:xfrm>
              <a:off x="457200" y="3328920"/>
              <a:ext cx="3350880" cy="3527280"/>
              <a:chOff x="457200" y="3328920"/>
              <a:chExt cx="3350880" cy="3527280"/>
            </a:xfrm>
          </p:grpSpPr>
          <p:graphicFrame>
            <p:nvGraphicFramePr>
              <p:cNvPr id="132" name="Object 8"/>
              <p:cNvGraphicFramePr/>
              <p:nvPr/>
            </p:nvGraphicFramePr>
            <p:xfrm>
              <a:off x="457200" y="5081040"/>
              <a:ext cx="1846800" cy="1775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7200" y="5081040"/>
                        <a:ext cx="1846800" cy="177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4" name="Object 9"/>
              <p:cNvGraphicFramePr/>
              <p:nvPr/>
            </p:nvGraphicFramePr>
            <p:xfrm>
              <a:off x="533160" y="3328920"/>
              <a:ext cx="1846800" cy="1775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5" name="Object 9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3160" y="3328920"/>
                        <a:ext cx="1846800" cy="177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6" name="Text Box 10"/>
              <p:cNvSpPr/>
              <p:nvPr/>
            </p:nvSpPr>
            <p:spPr>
              <a:xfrm>
                <a:off x="1828080" y="4876200"/>
                <a:ext cx="198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Person #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Line 11"/>
            <p:cNvSpPr/>
            <p:nvPr/>
          </p:nvSpPr>
          <p:spPr>
            <a:xfrm flipH="1" flipV="1">
              <a:off x="2360520" y="4493880"/>
              <a:ext cx="231840" cy="30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 flipH="1">
              <a:off x="2360520" y="5410080"/>
              <a:ext cx="2318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Group 13"/>
          <p:cNvGrpSpPr/>
          <p:nvPr/>
        </p:nvGrpSpPr>
        <p:grpSpPr>
          <a:xfrm>
            <a:off x="3200400" y="3429000"/>
            <a:ext cx="2916720" cy="3427200"/>
            <a:chOff x="3200400" y="3429000"/>
            <a:chExt cx="2916720" cy="3427200"/>
          </a:xfrm>
        </p:grpSpPr>
        <p:grpSp>
          <p:nvGrpSpPr>
            <p:cNvPr id="140" name="Group 14"/>
            <p:cNvGrpSpPr/>
            <p:nvPr/>
          </p:nvGrpSpPr>
          <p:grpSpPr>
            <a:xfrm>
              <a:off x="3200400" y="3429000"/>
              <a:ext cx="2916720" cy="3427200"/>
              <a:chOff x="3200400" y="3429000"/>
              <a:chExt cx="2916720" cy="3427200"/>
            </a:xfrm>
          </p:grpSpPr>
          <p:graphicFrame>
            <p:nvGraphicFramePr>
              <p:cNvPr id="141" name="Object 15"/>
              <p:cNvGraphicFramePr/>
              <p:nvPr/>
            </p:nvGraphicFramePr>
            <p:xfrm>
              <a:off x="3276360" y="5081040"/>
              <a:ext cx="1846800" cy="1775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42" name="Object 1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76360" y="5081040"/>
                        <a:ext cx="1846800" cy="177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3" name="Object 16"/>
              <p:cNvGraphicFramePr/>
              <p:nvPr/>
            </p:nvGraphicFramePr>
            <p:xfrm>
              <a:off x="3200400" y="3429000"/>
              <a:ext cx="1846800" cy="1775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44" name="Object 1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00400" y="3429000"/>
                        <a:ext cx="1846800" cy="177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5" name="Rectangle 17"/>
              <p:cNvSpPr/>
              <p:nvPr/>
            </p:nvSpPr>
            <p:spPr>
              <a:xfrm>
                <a:off x="4724640" y="4876200"/>
                <a:ext cx="139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Person #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18"/>
            <p:cNvSpPr/>
            <p:nvPr/>
          </p:nvSpPr>
          <p:spPr>
            <a:xfrm flipH="1" flipV="1">
              <a:off x="5027400" y="4570200"/>
              <a:ext cx="231480" cy="30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19"/>
            <p:cNvSpPr/>
            <p:nvPr/>
          </p:nvSpPr>
          <p:spPr>
            <a:xfrm flipH="1">
              <a:off x="5103720" y="5410080"/>
              <a:ext cx="2318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Group 20"/>
          <p:cNvGrpSpPr/>
          <p:nvPr/>
        </p:nvGrpSpPr>
        <p:grpSpPr>
          <a:xfrm>
            <a:off x="6172200" y="3276720"/>
            <a:ext cx="2968920" cy="3579480"/>
            <a:chOff x="6172200" y="3276720"/>
            <a:chExt cx="2968920" cy="3579480"/>
          </a:xfrm>
        </p:grpSpPr>
        <p:grpSp>
          <p:nvGrpSpPr>
            <p:cNvPr id="149" name="Group 21"/>
            <p:cNvGrpSpPr/>
            <p:nvPr/>
          </p:nvGrpSpPr>
          <p:grpSpPr>
            <a:xfrm>
              <a:off x="6172200" y="3276720"/>
              <a:ext cx="2968920" cy="3579480"/>
              <a:chOff x="6172200" y="3276720"/>
              <a:chExt cx="2968920" cy="3579480"/>
            </a:xfrm>
          </p:grpSpPr>
          <p:graphicFrame>
            <p:nvGraphicFramePr>
              <p:cNvPr id="150" name="Object 22"/>
              <p:cNvGraphicFramePr/>
              <p:nvPr/>
            </p:nvGraphicFramePr>
            <p:xfrm>
              <a:off x="6248160" y="5080680"/>
              <a:ext cx="1846440" cy="17755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51" name="Object 2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248160" y="5080680"/>
                        <a:ext cx="1846440" cy="177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2" name="Object 23"/>
              <p:cNvGraphicFramePr/>
              <p:nvPr/>
            </p:nvGraphicFramePr>
            <p:xfrm>
              <a:off x="6172200" y="3276720"/>
              <a:ext cx="1846440" cy="17755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53" name="Object 23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172200" y="3276720"/>
                        <a:ext cx="1846440" cy="177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4" name="Rectangle 24"/>
              <p:cNvSpPr/>
              <p:nvPr/>
            </p:nvSpPr>
            <p:spPr>
              <a:xfrm>
                <a:off x="7748640" y="4799880"/>
                <a:ext cx="139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Person #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Line 25"/>
            <p:cNvSpPr/>
            <p:nvPr/>
          </p:nvSpPr>
          <p:spPr>
            <a:xfrm flipH="1" flipV="1">
              <a:off x="7999200" y="4417920"/>
              <a:ext cx="231480" cy="30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6"/>
            <p:cNvSpPr/>
            <p:nvPr/>
          </p:nvSpPr>
          <p:spPr>
            <a:xfrm flipH="1">
              <a:off x="8075520" y="5334120"/>
              <a:ext cx="2318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1"/>
          <p:cNvGraphicFramePr/>
          <p:nvPr/>
        </p:nvGraphicFramePr>
        <p:xfrm>
          <a:off x="3505320" y="5024520"/>
          <a:ext cx="106668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5024520"/>
                    <a:ext cx="10666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2"/>
          <p:cNvGraphicFramePr/>
          <p:nvPr/>
        </p:nvGraphicFramePr>
        <p:xfrm>
          <a:off x="3505320" y="1442880"/>
          <a:ext cx="1066680" cy="10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44288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5486400" y="5024520"/>
          <a:ext cx="1066680" cy="10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5024520"/>
                    <a:ext cx="10666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5334120" y="1442880"/>
          <a:ext cx="1066680" cy="10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144288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3505320" y="3195720"/>
          <a:ext cx="1066680" cy="10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3195720"/>
                    <a:ext cx="10666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5410080" y="3195720"/>
          <a:ext cx="1067040" cy="104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3195720"/>
                    <a:ext cx="106704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7315200" y="3195720"/>
          <a:ext cx="1066680" cy="104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5200" y="3195720"/>
                    <a:ext cx="10666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8"/>
          <p:cNvGraphicFramePr/>
          <p:nvPr/>
        </p:nvGraphicFramePr>
        <p:xfrm>
          <a:off x="7315200" y="5024520"/>
          <a:ext cx="1066680" cy="104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5200" y="5024520"/>
                    <a:ext cx="10666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9"/>
          <p:cNvSpPr/>
          <p:nvPr/>
        </p:nvSpPr>
        <p:spPr>
          <a:xfrm>
            <a:off x="457200" y="1143000"/>
            <a:ext cx="2438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66ff"/>
                </a:solidFill>
                <a:latin typeface="Times New Roman"/>
              </a:rPr>
              <a:t>Now you try one.  There are 9 buttons and it takes 3 buttons to play a game.  How many players will there be in the g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"/>
          <p:cNvGraphicFramePr/>
          <p:nvPr/>
        </p:nvGraphicFramePr>
        <p:xfrm>
          <a:off x="7238880" y="1519200"/>
          <a:ext cx="1067040" cy="104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8880" y="1519200"/>
                    <a:ext cx="10670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Group 11"/>
          <p:cNvGrpSpPr/>
          <p:nvPr/>
        </p:nvGrpSpPr>
        <p:grpSpPr>
          <a:xfrm>
            <a:off x="5181480" y="304920"/>
            <a:ext cx="2818080" cy="642600"/>
            <a:chOff x="5181480" y="304920"/>
            <a:chExt cx="2818080" cy="642600"/>
          </a:xfrm>
        </p:grpSpPr>
        <p:sp>
          <p:nvSpPr>
            <p:cNvPr id="177" name="Text Box 12"/>
            <p:cNvSpPr/>
            <p:nvPr/>
          </p:nvSpPr>
          <p:spPr>
            <a:xfrm>
              <a:off x="5181480" y="304920"/>
              <a:ext cx="281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9    3 = </a:t>
              </a:r>
              <a:r>
                <a:rPr b="0" lang="en-GB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78" name="Object 13"/>
            <p:cNvGraphicFramePr/>
            <p:nvPr/>
          </p:nvGraphicFramePr>
          <p:xfrm>
            <a:off x="5651280" y="465840"/>
            <a:ext cx="283680" cy="3956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9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51280" y="465840"/>
                      <a:ext cx="283680" cy="3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1"/>
          <p:cNvGraphicFramePr/>
          <p:nvPr/>
        </p:nvGraphicFramePr>
        <p:xfrm>
          <a:off x="762120" y="4267080"/>
          <a:ext cx="106668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26708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762120" y="1981080"/>
          <a:ext cx="1066680" cy="10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8108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762120" y="3124080"/>
          <a:ext cx="106668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12408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3352680" y="4267080"/>
          <a:ext cx="1067040" cy="10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267080"/>
                    <a:ext cx="10670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5"/>
          <p:cNvGraphicFramePr/>
          <p:nvPr/>
        </p:nvGraphicFramePr>
        <p:xfrm>
          <a:off x="3352680" y="3124080"/>
          <a:ext cx="1067040" cy="104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3124080"/>
                    <a:ext cx="10670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6"/>
          <p:cNvGraphicFramePr/>
          <p:nvPr/>
        </p:nvGraphicFramePr>
        <p:xfrm>
          <a:off x="3352680" y="2057400"/>
          <a:ext cx="1067040" cy="104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057400"/>
                    <a:ext cx="10670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7"/>
          <p:cNvGraphicFramePr/>
          <p:nvPr/>
        </p:nvGraphicFramePr>
        <p:xfrm>
          <a:off x="6172200" y="4343400"/>
          <a:ext cx="1066680" cy="104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3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434340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8"/>
          <p:cNvGraphicFramePr/>
          <p:nvPr/>
        </p:nvGraphicFramePr>
        <p:xfrm>
          <a:off x="6172200" y="2057400"/>
          <a:ext cx="1066680" cy="104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05740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9"/>
          <p:cNvGraphicFramePr/>
          <p:nvPr/>
        </p:nvGraphicFramePr>
        <p:xfrm>
          <a:off x="6172200" y="3200400"/>
          <a:ext cx="1066680" cy="104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7" name="Object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72200" y="320040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10"/>
          <p:cNvSpPr/>
          <p:nvPr/>
        </p:nvSpPr>
        <p:spPr>
          <a:xfrm>
            <a:off x="609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er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3124080" y="5638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er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586728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er #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Oval 13"/>
          <p:cNvSpPr/>
          <p:nvPr/>
        </p:nvSpPr>
        <p:spPr>
          <a:xfrm>
            <a:off x="380880" y="1600200"/>
            <a:ext cx="1752840" cy="403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2971800" y="1523880"/>
            <a:ext cx="1905120" cy="403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715000" y="1600200"/>
            <a:ext cx="1905120" cy="403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457200" y="3808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66ff"/>
                </a:solidFill>
                <a:latin typeface="Times New Roman"/>
              </a:rPr>
              <a:t>You’re right.  There will be 3 players because 9 divided by 3 equals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3200400" y="18288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 u="sng">
                <a:solidFill>
                  <a:srgbClr val="3366ff"/>
                </a:solidFill>
                <a:uFillTx/>
                <a:latin typeface="Times New Roman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Object 2"/>
          <p:cNvGraphicFramePr/>
          <p:nvPr/>
        </p:nvGraphicFramePr>
        <p:xfrm>
          <a:off x="2362320" y="0"/>
          <a:ext cx="1788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1788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3"/>
          <p:cNvGraphicFramePr/>
          <p:nvPr/>
        </p:nvGraphicFramePr>
        <p:xfrm>
          <a:off x="6858000" y="0"/>
          <a:ext cx="17892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0"/>
                    <a:ext cx="1789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4"/>
          <p:cNvGraphicFramePr/>
          <p:nvPr/>
        </p:nvGraphicFramePr>
        <p:xfrm>
          <a:off x="0" y="0"/>
          <a:ext cx="1847880" cy="17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184788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5"/>
          <p:cNvGraphicFramePr/>
          <p:nvPr/>
        </p:nvGraphicFramePr>
        <p:xfrm>
          <a:off x="4572000" y="0"/>
          <a:ext cx="164304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0"/>
                    <a:ext cx="16430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6"/>
          <p:cNvSpPr/>
          <p:nvPr/>
        </p:nvSpPr>
        <p:spPr>
          <a:xfrm>
            <a:off x="304920" y="2590920"/>
            <a:ext cx="83055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roject Developed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eparing Tomorrow’s Teachers to Use Technology (PT3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Dr. Beth McCulloch Vi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hens State University, College of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athens.edu/vinsob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Beth McCulloch Vinson</dc:creator>
  <dc:description/>
  <dc:language>en-US</dc:language>
  <cp:lastModifiedBy>127ramirezc</cp:lastModifiedBy>
  <dcterms:modified xsi:type="dcterms:W3CDTF">2009-11-16T14:56:07Z</dcterms:modified>
  <cp:revision>1</cp:revision>
  <dc:subject/>
  <dc:title>PowerPoint Presentation</dc:title>
</cp:coreProperties>
</file>